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907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11040" y="744120"/>
            <a:ext cx="257652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A8D1-F5EE-43C9-A67B-CB07F5C82B7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2111400" y="744480"/>
            <a:ext cx="2576520" cy="372276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33CE-C700-44E0-97AB-83E59B0991B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4DDD-33C1-4FF1-A25C-EB8DBDE2A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617544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1280" y="5725800"/>
            <a:ext cx="617544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5501-243F-4FFB-AAB6-B4907957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6040" y="23112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1280" y="57258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6040" y="57258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BE14-9750-42B8-8852-324D23655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19882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280" y="2311200"/>
            <a:ext cx="19882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7280" y="2311200"/>
            <a:ext cx="19882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1280" y="5725800"/>
            <a:ext cx="19882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280" y="5725800"/>
            <a:ext cx="19882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7280" y="5725800"/>
            <a:ext cx="19882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A5DD-6994-418B-B6EB-07E95B2DD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1280" y="2311200"/>
            <a:ext cx="617544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F007-92C6-4B8B-B424-DE70C1BE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617544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75DD-3D7A-4336-87F4-66E0565B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30135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6040" y="2311200"/>
            <a:ext cx="30135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558A-39CA-4A5B-BEE8-8F3FFD6F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6355-2E43-4735-9C8C-3679B59B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1280" y="395280"/>
            <a:ext cx="617544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0FFA-C481-4ED6-ACA3-166096DF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6040" y="2311200"/>
            <a:ext cx="30135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1280" y="57258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9D0A-B906-4B70-82C2-80B4FC32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30135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6040" y="23112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6040" y="57258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20FC-81C3-4FB2-B30A-05A8E469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6040" y="23112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1280" y="5725800"/>
            <a:ext cx="617544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E676-D012-4FEE-AC52-6770F35A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1280" y="2311200"/>
            <a:ext cx="617544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31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1280" y="9019800"/>
            <a:ext cx="1603440" cy="6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it-IT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Allegato 2.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3280" y="9019800"/>
            <a:ext cx="1603440" cy="6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it-IT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C90F821-80FC-43C1-9CAC-0E2CC8AA1C0A}" type="slidenum">
              <a:rPr b="0" lang="it-IT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141720" y="6537240"/>
            <a:ext cx="3403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516480" y="5964120"/>
            <a:ext cx="3341520" cy="389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Elezione di 28 componenti del CNSU iscritti ad un corso di laurea,  di laurea magistrale, di laurea magistrale a ciclo unico o a corsi di laurea di precedenti ordinament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Università degli Studi di…….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…………………………………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Sede di……..…………………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Seggio N°…….………………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Firma del President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egnaposto piè di pagina 1"/>
          <p:cNvSpPr/>
          <p:nvPr/>
        </p:nvSpPr>
        <p:spPr>
          <a:xfrm>
            <a:off x="189000" y="8985240"/>
            <a:ext cx="217152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llegato 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asellaDiTesto 2"/>
          <p:cNvSpPr/>
          <p:nvPr/>
        </p:nvSpPr>
        <p:spPr>
          <a:xfrm>
            <a:off x="4231440" y="415800"/>
            <a:ext cx="1630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Lato estern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Ovale 1"/>
          <p:cNvSpPr/>
          <p:nvPr/>
        </p:nvSpPr>
        <p:spPr>
          <a:xfrm>
            <a:off x="293760" y="4761000"/>
            <a:ext cx="576360" cy="576000"/>
          </a:xfrm>
          <a:prstGeom prst="ellipse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egnaposto piè di pagina 1"/>
          <p:cNvSpPr/>
          <p:nvPr/>
        </p:nvSpPr>
        <p:spPr>
          <a:xfrm>
            <a:off x="485640" y="8842320"/>
            <a:ext cx="21718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8000"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llegato 2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asellaDiTesto 2"/>
          <p:cNvSpPr/>
          <p:nvPr/>
        </p:nvSpPr>
        <p:spPr>
          <a:xfrm>
            <a:off x="497160" y="3903840"/>
            <a:ext cx="2253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Simbolo o casell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vuota in caso di assenza di simbol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ttangolo 3"/>
          <p:cNvSpPr/>
          <p:nvPr/>
        </p:nvSpPr>
        <p:spPr>
          <a:xfrm>
            <a:off x="1052640" y="4689360"/>
            <a:ext cx="2663640" cy="7192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ttangolo 4"/>
          <p:cNvSpPr/>
          <p:nvPr/>
        </p:nvSpPr>
        <p:spPr>
          <a:xfrm rot="10800000">
            <a:off x="3847680" y="4689360"/>
            <a:ext cx="2825640" cy="7192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…………………………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ttangolo 1"/>
          <p:cNvSpPr/>
          <p:nvPr/>
        </p:nvSpPr>
        <p:spPr>
          <a:xfrm>
            <a:off x="468360" y="8553600"/>
            <a:ext cx="58323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PRIMO LEMBO DA PIEG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asellaDiTesto 2"/>
          <p:cNvSpPr/>
          <p:nvPr/>
        </p:nvSpPr>
        <p:spPr>
          <a:xfrm>
            <a:off x="4662360" y="1208160"/>
            <a:ext cx="1576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Lato intern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asellaDiTesto 3"/>
          <p:cNvSpPr/>
          <p:nvPr/>
        </p:nvSpPr>
        <p:spPr>
          <a:xfrm>
            <a:off x="1052640" y="4437000"/>
            <a:ext cx="27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ENOMINAZIONE DELLA LIS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asellaDiTesto 4"/>
          <p:cNvSpPr/>
          <p:nvPr/>
        </p:nvSpPr>
        <p:spPr>
          <a:xfrm>
            <a:off x="3813120" y="4437000"/>
            <a:ext cx="302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VOTO DI PREFERENZA PER UN CANDIDA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e 1"/>
          <p:cNvSpPr/>
          <p:nvPr/>
        </p:nvSpPr>
        <p:spPr>
          <a:xfrm>
            <a:off x="297000" y="5700600"/>
            <a:ext cx="576000" cy="576360"/>
          </a:xfrm>
          <a:prstGeom prst="ellipse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ttangolo 3"/>
          <p:cNvSpPr/>
          <p:nvPr/>
        </p:nvSpPr>
        <p:spPr>
          <a:xfrm>
            <a:off x="1052640" y="5602320"/>
            <a:ext cx="2663640" cy="7192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ttangolo 4"/>
          <p:cNvSpPr/>
          <p:nvPr/>
        </p:nvSpPr>
        <p:spPr>
          <a:xfrm rot="10800000">
            <a:off x="3847680" y="5602320"/>
            <a:ext cx="2825640" cy="7192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…………………………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e 1"/>
          <p:cNvSpPr/>
          <p:nvPr/>
        </p:nvSpPr>
        <p:spPr>
          <a:xfrm>
            <a:off x="297000" y="6545160"/>
            <a:ext cx="576000" cy="576360"/>
          </a:xfrm>
          <a:prstGeom prst="ellipse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ttangolo 3"/>
          <p:cNvSpPr/>
          <p:nvPr/>
        </p:nvSpPr>
        <p:spPr>
          <a:xfrm>
            <a:off x="1052640" y="6473880"/>
            <a:ext cx="2663640" cy="7189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ttangolo 4"/>
          <p:cNvSpPr/>
          <p:nvPr/>
        </p:nvSpPr>
        <p:spPr>
          <a:xfrm rot="10800000">
            <a:off x="3847680" y="6473520"/>
            <a:ext cx="2825640" cy="7189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…………………………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3T13:47:32Z</dcterms:created>
  <dc:creator>Fabrizio</dc:creator>
  <dc:description/>
  <dc:language>en-US</dc:language>
  <cp:lastModifiedBy>HP</cp:lastModifiedBy>
  <cp:lastPrinted>2019-04-08T14:26:55Z</cp:lastPrinted>
  <dcterms:modified xsi:type="dcterms:W3CDTF">2022-02-15T08:24:53Z</dcterms:modified>
  <cp:revision>82</cp:revision>
  <dc:subject/>
  <dc:title>Diapositiva 1</dc:title>
</cp:coreProperties>
</file>